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BE5-5CA2-4BEE-8EAA-8CE9F52C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E06-F0D0-4F0A-9C20-00FB2AD0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BB7-1F1A-4709-9FAC-3DFBB8EA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17F-249B-4092-AF20-5B077895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748-1387-409F-AA1E-2657B2BC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11C-0677-4D82-82DA-16CCC2B3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BAC-BFA6-45BD-B7E6-8F263176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600-9E2A-4D26-9CA2-F69F33B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2C6-6C71-450F-B9AF-5F0FA5F5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3D3-7176-4821-A4B2-8FC54F6E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34A-07D6-4BCC-8298-45280BE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9F2-4D66-43CC-8A62-5996B22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5CF-FA07-489C-AF27-428B851D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924-CA9A-4F3A-996C-C11FA79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939-B81F-48AE-A59C-D6487496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8:44Z</dcterms:modified>
  <cp:revision>102</cp:revision>
  <dc:subject/>
  <dc:title>Profile</dc:title>
</cp:coreProperties>
</file>